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AA3-7834-4749-B95A-DBC54010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9F3-1618-4066-8EE4-2BA1D7CF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1BB-097D-49B0-81B1-6C17DE7E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9B8-1170-4854-AE91-F4F6532E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B12-1B52-4851-BD84-BD5E94B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565-3316-41F2-801E-3DE76BEB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EC4-D638-433E-B430-A347DA23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795-E2C2-4E23-B731-59802DC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02B-DA87-47DD-B9F7-47B5DFFA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744-31FB-4E9F-B18C-E3025E55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C71-E551-4EF1-9A35-11F0533A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3E0-2C0A-4AA5-BFE0-EB0A25B5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3F2F-CD23-49E4-90A7-21716EABC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3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3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3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"/>
          <p:cNvPicPr/>
          <p:nvPr/>
        </p:nvPicPr>
        <p:blipFill>
          <a:blip r:embed="rId3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3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4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373800" y="5524560"/>
            <a:ext cx="2401920" cy="1220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444600" y="5905440"/>
            <a:ext cx="289548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-9360" y="2658960"/>
            <a:ext cx="9153360" cy="2616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177840" y="2293920"/>
            <a:ext cx="19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7" descr=""/>
          <p:cNvPicPr/>
          <p:nvPr/>
        </p:nvPicPr>
        <p:blipFill>
          <a:blip r:embed="rId3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4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5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12640" y="644040"/>
            <a:ext cx="76788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Vrednotenje izvajanja kohezijske politike OP 2014 – 2020</a:t>
            </a:r>
            <a:br>
              <a:rPr sz="2400"/>
            </a:br>
            <a:br>
              <a:rPr sz="3600"/>
            </a:br>
            <a:r>
              <a:rPr b="1" lang="sl-SI" sz="1600" spc="-1" strike="noStrike">
                <a:solidFill>
                  <a:srgbClr val="2f5597"/>
                </a:solidFill>
                <a:latin typeface="Calibri"/>
              </a:rPr>
              <a:t>OzS, 29.9.2020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ravokotnik 1"/>
          <p:cNvSpPr/>
          <p:nvPr/>
        </p:nvSpPr>
        <p:spPr>
          <a:xfrm>
            <a:off x="787320" y="2917800"/>
            <a:ext cx="73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579600" y="30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oljeZBesedilom 3"/>
          <p:cNvSpPr/>
          <p:nvPr/>
        </p:nvSpPr>
        <p:spPr>
          <a:xfrm>
            <a:off x="907920" y="723960"/>
            <a:ext cx="67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Od zadnjega poročanja n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oljeZBesedilom 4"/>
          <p:cNvSpPr/>
          <p:nvPr/>
        </p:nvSpPr>
        <p:spPr>
          <a:xfrm>
            <a:off x="1018080" y="1608120"/>
            <a:ext cx="45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stopanje od potrjenega nač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ileme z objavo javnega razpi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Menjave ministr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Covi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njena sestav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oljeZBesedilom 1"/>
          <p:cNvSpPr/>
          <p:nvPr/>
        </p:nvSpPr>
        <p:spPr>
          <a:xfrm>
            <a:off x="1588680" y="93816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Nadaljevanje aktivnosti vrednot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oljeZBesedilom 2"/>
          <p:cNvSpPr/>
          <p:nvPr/>
        </p:nvSpPr>
        <p:spPr>
          <a:xfrm>
            <a:off x="1429560" y="2001960"/>
            <a:ext cx="7726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za dve vrednoten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(Učinkovitost in uspešnost izvajanja specifičnih ciljev „Povečan delež inovacijsko aktivnih podjetij“ in „Povečan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učinkovitosti rabe energije v javnem sektorju“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otrditev prenovljene Interdisciplinarne skup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Sprememba letnega načrta vrednotenj za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riprava letnega načrta vrednotenj za 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in izved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 Light"/>
              </a:rPr>
              <a:t>Hvala za pozornost</a:t>
            </a: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rcRect l="18542" t="11954" r="2709" b="82682"/>
          <a:stretch/>
        </p:blipFill>
        <p:spPr>
          <a:xfrm>
            <a:off x="0" y="68400"/>
            <a:ext cx="9144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Vincekovic, Lidija (SI - Ljubljana)</dc:creator>
  <dc:description/>
  <dc:language>en-US</dc:language>
  <cp:lastModifiedBy>Mateja Mahkovec</cp:lastModifiedBy>
  <cp:lastPrinted>2019-12-17T12:58:53Z</cp:lastPrinted>
  <dcterms:modified xsi:type="dcterms:W3CDTF">2020-09-28T05:53:33Z</dcterms:modified>
  <cp:revision>164</cp:revision>
  <dc:subject/>
  <dc:title>PowerPoint Presentation</dc:title>
</cp:coreProperties>
</file>